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CDEE-4518-4A80-A06B-69CD9AC109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2376-80B1-4BDE-AC4D-3B8977DCF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4B413-FE80-4187-BE50-AA3685CAD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39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0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39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0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EF9F-1FE1-4A5F-BE49-D31820E5F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846ED-5094-4BC3-AA8D-DC0B0B7200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FFF22-806B-444D-9847-A80166FD48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B93C7-CE2F-4D96-9126-252CC42687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9AEE-23F2-4D9E-A141-2157915B42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E1A2-1BED-4309-8721-2F3899C915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1760" y="333360"/>
            <a:ext cx="79246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AE9D9-9A3F-4797-A009-EBD3EA4B0B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22793-66CB-4641-9E08-DCBBF4D73B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8CB2-8BE3-4105-9104-DE162020C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205C-B90A-4299-A2ED-C5F6C14DCC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DF5D-A98D-4C26-AFF2-E44B952565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384E-2339-4452-88DB-AA9AC12AB9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1944-4608-4EC5-82FE-D479844B2C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39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0080" y="148392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38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39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0080" y="4290840"/>
            <a:ext cx="24768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690A-724C-4323-9A65-69ADC4E4E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A008-B1F8-48D5-A538-7080961B4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68550-FF37-4E54-AF31-DB431F6B7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76CB-CF93-402A-8547-86DD3531A1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1760" y="333360"/>
            <a:ext cx="792468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4B5F-5A7B-459D-BB03-01DFDB124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7FC46-12ED-4437-9950-690FB6BD6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80080" y="429084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0AA0-B701-415C-94E3-90E512FB3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1483920"/>
            <a:ext cx="375408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290840"/>
            <a:ext cx="7693200" cy="25632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B136-C403-4F92-88C4-AB8A1CD60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73520" y="2905200"/>
            <a:ext cx="4013280" cy="1844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rmAutofit fontScale="49000"/>
          </a:bodyPr>
          <a:p>
            <a:pPr marL="19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2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3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4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5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6" marL="19080"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128520" y="6254280"/>
            <a:ext cx="4809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92BE-D234-4384-BF9E-479087E2E79B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97920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188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3184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89040" indent="-228600">
              <a:spcBef>
                <a:spcPts val="60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46240" indent="-228600">
              <a:spcBef>
                <a:spcPts val="601"/>
              </a:spcBef>
              <a:buClr>
                <a:srgbClr val="003366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46240" indent="-228600">
              <a:spcBef>
                <a:spcPts val="601"/>
              </a:spcBef>
              <a:buClr>
                <a:srgbClr val="003366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46240" indent="-228600">
              <a:spcBef>
                <a:spcPts val="601"/>
              </a:spcBef>
              <a:buClr>
                <a:srgbClr val="003366"/>
              </a:buClr>
              <a:buSzPct val="64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ffffff"/>
                </a:solidFill>
                <a:latin typeface="Arial Bold"/>
                <a:ea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A991-B219-4B30-A01D-3EBC3AA10250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fr/ig/api?weather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fr/ig/api?weather=orleans,france" TargetMode="External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fr/ig/api?weather=orleans,france" TargetMode="Externa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8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248320" y="4889520"/>
              <a:ext cx="2606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" name=""/>
          <p:cNvSpPr txBox="1"/>
          <p:nvPr/>
        </p:nvSpPr>
        <p:spPr>
          <a:xfrm>
            <a:off x="128520" y="6254280"/>
            <a:ext cx="4809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D82E-07DF-48BF-8989-64D2862E4249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79200"/>
            <a:ext cx="8229600" cy="1925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old"/>
              </a:rPr>
              <a:t>Module GET.METEO.FROM.GOOGLE v1.0</a:t>
            </a:r>
            <a:endParaRPr b="0" lang="en-US" sz="2800" spc="-1" strike="noStrike">
              <a:solidFill>
                <a:srgbClr val="003366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73520" y="2905200"/>
            <a:ext cx="4013280" cy="1844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rmAutofit/>
          </a:bodyPr>
          <a:p>
            <a:pPr marL="3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© 2010 – Cédric Locqueneux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69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72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4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89B6-D2CD-4BB6-A436-49A97DA77B0C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Problèmes Connu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ur tout problème, vous pouvez me contacter via le sit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http://www.maison-et-domotique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88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91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022C-B9F6-464A-97DC-4C291AAE95D3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aractéristique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élécharger les prévisions météo de Goo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érature Min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érature Max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mpérature Actu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umidit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nt (Force et Directio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visions du jou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évisions à J+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97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00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2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7B75-D78F-4B1D-971C-856E2024D0EF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nfiguration requise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e connection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06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09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A0EF-FEFF-4C08-AC03-6B85D29399F3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Vue Gobale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449520" y="3070080"/>
            <a:ext cx="2665080" cy="1725480"/>
            <a:chOff x="3449520" y="3070080"/>
            <a:chExt cx="2665080" cy="1725480"/>
          </a:xfrm>
        </p:grpSpPr>
        <p:sp>
          <p:nvSpPr>
            <p:cNvPr id="114" name=""/>
            <p:cNvSpPr/>
            <p:nvPr/>
          </p:nvSpPr>
          <p:spPr>
            <a:xfrm>
              <a:off x="3449520" y="3070080"/>
              <a:ext cx="2665080" cy="1725480"/>
            </a:xfrm>
            <a:prstGeom prst="pie">
              <a:avLst/>
            </a:prstGeom>
            <a:solidFill>
              <a:srgbClr val="99cc99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11560" y="3606840"/>
              <a:ext cx="13341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68400" tIns="25560" bIns="25560" anchor="t">
              <a:no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3366"/>
                  </a:solidFill>
                  <a:latin typeface="Arial Bold"/>
                  <a:ea typeface="Arial Bold"/>
                </a:rPr>
                <a:t>GET.METEO.FROM.GOOG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257880" y="2851200"/>
            <a:ext cx="360360" cy="302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3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5965" y="10800"/>
                  <a:pt x="0" y="10800"/>
                </a:cubicBezTo>
                <a:cubicBezTo>
                  <a:pt x="596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15635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200" y="2637000"/>
            <a:ext cx="22327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En sorti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1 : Min. Tem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2 : Max Tem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3 : Temp Actuel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4 : Humidité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5 : V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6 : Prévisions 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7 : Prévisions J+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8 : Prévisions J+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W49 : Prévisions J+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6360" y="5732640"/>
            <a:ext cx="4543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Evènement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Télécharger les prévisions toutes les heu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4760" y="1484280"/>
            <a:ext cx="3644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Lien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google.fr/ig/api?weat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60000">
            <a:off x="4527720" y="2201760"/>
            <a:ext cx="720720" cy="792360"/>
          </a:xfrm>
          <a:prstGeom prst="pie">
            <a:avLst/>
          </a:prstGeom>
          <a:solidFill>
            <a:srgbClr val="33cccc"/>
          </a:solidFill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17160" y="2851200"/>
            <a:ext cx="360360" cy="302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635" y="0"/>
                  <a:pt x="10800" y="806"/>
                  <a:pt x="10800" y="1800"/>
                </a:cubicBezTo>
                <a:lnTo>
                  <a:pt x="10800" y="9000"/>
                </a:lnTo>
                <a:cubicBezTo>
                  <a:pt x="10800" y="9994"/>
                  <a:pt x="5965" y="10800"/>
                  <a:pt x="0" y="10800"/>
                </a:cubicBezTo>
                <a:cubicBezTo>
                  <a:pt x="5965" y="10800"/>
                  <a:pt x="10800" y="11606"/>
                  <a:pt x="10800" y="12600"/>
                </a:cubicBezTo>
                <a:lnTo>
                  <a:pt x="10800" y="19800"/>
                </a:lnTo>
                <a:cubicBezTo>
                  <a:pt x="10800" y="20794"/>
                  <a:pt x="15635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2781360"/>
            <a:ext cx="198108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3366"/>
                </a:solidFill>
                <a:uFillTx/>
                <a:latin typeface="Arial Bold"/>
                <a:ea typeface="Arial Bold"/>
              </a:rPr>
              <a:t>En entré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Aucune entrée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24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27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9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3A6C-1524-4FC9-868F-A4EE340E82F9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Dernier changement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769320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1.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82600" indent="-22860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emière vers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33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36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8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D23C-F6AD-4984-8F39-DEA7CD85A491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mment installer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%HOMESEER% est le répertoire de Homese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 défaut C:\Program Files\HomeSeer HSPRO\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ziper dans le répertoire  %HOMESEER%/scripts/modules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iter %HOMESEER%/scripts/startup.t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jouter la commande vbscrip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s.run "modules\GET.METEO.FROM.GOOGLE\scripts\install.vbs“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iter les propriété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v_??.ini, properties.ini et evt_??.in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oir les 3 prochaines pages pour plus d’inform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mplacer votre ville dans l’adress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google.fr/ig/api?weather=orleans,fr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démarrer Homese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7476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s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érifier que des nouveaux devices sont apparus (W41 à W49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6680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érifier que des events GET.METEO.FROM.GOOGLE exist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42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45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7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66BB-3A61-499F-B83A-C46224838D8C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mment configurer le module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MOD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Quel mode utiliser ?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DATABAS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: si vous avez un base de données domotic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STANDALON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: Si vous travaillez sans base de donné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LEVE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Quel niveau de log voulez vous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INFORMATIO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WARNING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CRITICAL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u </a:t>
            </a: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SEVE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CONFI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Ou sont les fichiers de configuration 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..\scripts\modules\GET.METEO.FROM.GOOGLE\config\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VIC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Liste des devic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dev_w41.ini|dev_w42.ini|dev_w43.ini|dev_w44.ini|dev_w45.ini|dev_w46.ini|dev_w47.ini|dev_w48.ini|dev_w49.i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EVENT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Liste des even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 Bold"/>
                <a:ea typeface="Arial Bold"/>
              </a:rPr>
              <a:t>evt_getmeteo_every_60min.in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URL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URL pour télécharger les prévisi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  <a:hlinkClick r:id="rId1"/>
              </a:rPr>
              <a:t>http://www.google.fr/ig/api?weather=orleans,franc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FILE :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chier pour cacher les informations téléchargé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82640" indent="-28584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old"/>
                <a:ea typeface="Arial Bold"/>
              </a:rPr>
              <a:t>C:\Program Files\Homeseer\scripts\modules\GET.METEO.FROM.GOOGLE\tmp\meteo-google.tx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51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54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95AB-1A73-4FD0-A2D7-97E13667C298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 Bold"/>
              </a:rPr>
              <a:t>Comment configurer les devices</a:t>
            </a:r>
            <a:endParaRPr b="0" lang="en-US" sz="36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6000"/>
          </a:bodyPr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CAN_DIM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True si le device supporte le DIM X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H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W and </a:t>
            </a: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=8 : Code X10 d’Homeseer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LOCATION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Homeseer Loc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V_TYPE_STRI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Homeseer Typ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NAM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Homeseer N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REF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Device ID Unique d’Homese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STATUS_SUPPOR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True si le device supporte le protocole X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MISC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VALUE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FAULT_STATU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FAULT_STRI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Valeur par défau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51320" indent="-2743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??? Est la valeur par défau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DEFAULT_VALU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BUTTON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GRAPHIC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PARAM1=TEMP_M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51320" indent="-2743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e module télécharge la météo et assigne la valeur adéquate du parsing au device HC + D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6720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PARAM4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PARAM10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: non utilisé pour ce modu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60" name="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1600" y="14106"/>
                  </a:lnTo>
                  <a:lnTo>
                    <a:pt x="4750" y="14165"/>
                  </a:lnTo>
                  <a:lnTo>
                    <a:pt x="4425" y="14106"/>
                  </a:lnTo>
                  <a:lnTo>
                    <a:pt x="3850" y="14371"/>
                  </a:lnTo>
                  <a:cubicBezTo>
                    <a:pt x="3625" y="14635"/>
                    <a:pt x="3288" y="15076"/>
                    <a:pt x="3075" y="15605"/>
                  </a:cubicBezTo>
                  <a:cubicBezTo>
                    <a:pt x="2863" y="16134"/>
                    <a:pt x="2688" y="16869"/>
                    <a:pt x="2575" y="17544"/>
                  </a:cubicBezTo>
                  <a:cubicBezTo>
                    <a:pt x="2463" y="18220"/>
                    <a:pt x="2425" y="18896"/>
                    <a:pt x="2400" y="19572"/>
                  </a:cubicBezTo>
                  <a:lnTo>
                    <a:pt x="2400" y="21600"/>
                  </a:lnTo>
                  <a:lnTo>
                    <a:pt x="0" y="21600"/>
                  </a:lnTo>
                  <a:lnTo>
                    <a:pt x="0" y="14106"/>
                  </a:lnTo>
                  <a:lnTo>
                    <a:pt x="0" y="0"/>
                  </a:lnTo>
                  <a:lnTo>
                    <a:pt x="21600" y="0"/>
                  </a:lnTo>
                  <a:close/>
                  <a:moveTo>
                    <a:pt x="21600" y="0"/>
                  </a:moveTo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8600" y="1093680"/>
            <a:ext cx="7391520" cy="318960"/>
            <a:chOff x="228600" y="1093680"/>
            <a:chExt cx="7391520" cy="318960"/>
          </a:xfrm>
        </p:grpSpPr>
        <p:sp>
          <p:nvSpPr>
            <p:cNvPr id="163" name=""/>
            <p:cNvSpPr/>
            <p:nvPr/>
          </p:nvSpPr>
          <p:spPr>
            <a:xfrm>
              <a:off x="609480" y="10936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28600" y="1093680"/>
              <a:ext cx="393840" cy="318960"/>
            </a:xfrm>
            <a:prstGeom prst="pie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136440" y="6248520"/>
            <a:ext cx="4809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795D-E73A-4261-9B4A-B29926399D45}" type="slidenum">
              <a:rPr b="0" lang="en-US" sz="2600" spc="-1" strike="noStrike">
                <a:solidFill>
                  <a:srgbClr val="ffffff"/>
                </a:solidFill>
                <a:latin typeface="Arial Bold"/>
                <a:ea typeface="Arial Bold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333360"/>
            <a:ext cx="792468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 Bold"/>
              </a:rPr>
              <a:t>Comment configurer les évènements</a:t>
            </a:r>
            <a:endParaRPr b="0" lang="en-US" sz="3200" spc="-1" strike="noStrike">
              <a:solidFill>
                <a:srgbClr val="006666"/>
              </a:solidFill>
              <a:latin typeface="Arial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483920"/>
            <a:ext cx="8305920" cy="5373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NAM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Nom de l’évèn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EVT_ABS_TIME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6 pour un évènement reccur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REC_MIN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Lancer le script toutes les 60 minu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SCRIPTS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Script à lanc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 Bold"/>
                <a:ea typeface="Arial Bold"/>
              </a:rPr>
              <a:t>GROUP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: Groupe pour les évènements (GET.METEO.FROM.GOOGLE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 Bold Italic"/>
                <a:ea typeface="Arial Bold Italic"/>
              </a:rPr>
              <a:t>D’autres attributs peuvent être utilisés. Ils sont décrits dans le fichier Homeseer.chm file. Lancer ce fichier, Cliquer sur “Scripts”, Ouvrir “Event Functions”, et lire “GetEvent” funct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.</dc:creator>
  <dc:description/>
  <dc:language>en-US</dc:language>
  <cp:lastModifiedBy/>
  <cp:revision>0</cp:revision>
  <dc:subject/>
  <dc:title>Diapositive 1</dc:title>
</cp:coreProperties>
</file>