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0C08-B2F3-481A-A4F4-22510B491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33D4-0E67-4F1C-BB96-F7329DE0F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353E-5DCC-45A2-A40F-F474E0413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DDB5-8C4D-4868-9177-F2293DE27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EA16-9A31-49B7-83A3-C995B5C857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2A90-126E-4FA9-830F-AB3445A06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596F-48E3-4E53-863B-026CCF07A3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FF53-CC69-456D-A2D3-D3E1432DD1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EFEC-2554-4213-89CA-2747826D44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33DB-0C82-4247-9D82-F19EC5C59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952B-FA13-44AF-9B3B-1B904004F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DEEE-D4CA-40DA-A343-CDD6D99EC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16E5-FE88-45F8-B7D3-5D0F802F0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44C1-A5B6-408C-8C0D-456261FD9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A0F5-1E7C-49F6-B9D6-3B087B8854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6833-3717-4D7A-945E-04AA022D4E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8CDA-FA5D-475D-9270-D49F80969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4AEF-6499-4889-9206-A9E164D34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B2B7-A7A4-4725-BF35-1AECF8C56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6C79-E29D-4A1E-AC84-624042475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CBAE-06E9-4471-A56C-BEA6DEFCA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D0AC-D478-430B-A42B-A1B70F505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3E30-FF36-43ED-AA76-D9F109D60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970A-3546-4AE1-A0A5-395EB2445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rmAutofit fontScale="49000"/>
          </a:bodyPr>
          <a:p>
            <a:pPr marL="19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19C-029B-4AE9-84D5-24F3B00500E5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327-1E60-4D39-B249-147A1D4FA122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48320" y="4889520"/>
              <a:ext cx="2606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FDEB-4587-4167-B51A-D15B9A98D702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old"/>
              </a:rPr>
              <a:t>Module GET.METEO.FROM.GOOGLE v1.0</a:t>
            </a:r>
            <a:endParaRPr b="0" lang="en-US" sz="2800" spc="-1" strike="noStrike">
              <a:solidFill>
                <a:srgbClr val="003366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rmAutofit/>
          </a:bodyPr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© 2010 – Cédric Locqueneux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9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72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0D45-BFB2-4E22-AD5F-A1BB3AB31487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Problèmes Connu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r tout problème, vous pouvez me contacter via le sit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ttp://www.maison-et-domotique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88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91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C1C-AE37-4E4C-A1BB-1C75C3BE267A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aractéristiqu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élécharger les prévisions météo de Goo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ax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Actu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mid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nt (Force et Dire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du j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à J+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97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0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3D8-DC40-4A57-8480-6B867F78C8A8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nfiguration requis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e connection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06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9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98F-9238-4AB2-8E13-A9BC42AD3A2F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Vue Goba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449520" y="3070080"/>
            <a:ext cx="2665080" cy="1725480"/>
            <a:chOff x="3449520" y="3070080"/>
            <a:chExt cx="2665080" cy="1725480"/>
          </a:xfrm>
        </p:grpSpPr>
        <p:sp>
          <p:nvSpPr>
            <p:cNvPr id="114" name=""/>
            <p:cNvSpPr/>
            <p:nvPr/>
          </p:nvSpPr>
          <p:spPr>
            <a:xfrm>
              <a:off x="3449520" y="3070080"/>
              <a:ext cx="2665080" cy="1725480"/>
            </a:xfrm>
            <a:prstGeom prst="pie">
              <a:avLst/>
            </a:prstGeom>
            <a:solidFill>
              <a:srgbClr val="99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1560" y="3606840"/>
              <a:ext cx="13341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68400" tIns="25560" bIns="25560" anchor="t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 Bold"/>
                  <a:ea typeface="Arial Bold"/>
                </a:rPr>
                <a:t>GET.METEO.FROM.GOOG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5788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200" y="2637000"/>
            <a:ext cx="2232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sorti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1 : Min.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2 : Max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3 : Temp Actuel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4 : Humid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5 : V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6 : Prévisions 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7 : Prévisions J+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8 : Prévisions J+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9 : Prévisions J+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6360" y="5732640"/>
            <a:ext cx="4543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vènem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élécharger les prévisions toutes les he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4760" y="1484280"/>
            <a:ext cx="364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Lie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google.fr/ig/api?wea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60000">
            <a:off x="4527720" y="2201760"/>
            <a:ext cx="720720" cy="79236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1716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781360"/>
            <a:ext cx="1981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entré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ucune entrée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24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27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44D-4814-4A05-B2C0-5A631D6520FF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Dernier changement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1.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mière ver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33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36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613-5B74-4F10-BA0B-475212BF45F7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installer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%HOMESEER% est le répertoire de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 défaut C:\Program Files\HomeSeer HSPRO\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ziper dans le répertoire  %HOMESEER%/scripts/modules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%HOMESEER%/scripts/startup.t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jouter la commande vbscri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s.run "modules\GET.METEO.FROM.GOOGLE\scripts\install.vbs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les propriét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_??.ini, properties.ini et evt_??.i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ir les 3 prochaines pages pour plu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placer votre ville dans l’adres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fr/ig/api?weather=orleans,fr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démarrer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nouveaux devices sont apparus (W41 à W4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events GET.METEO.FROM.GOOGLE exis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42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45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3A4-DDF0-4259-8891-17E66B4A1175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 modu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O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mode utiliser 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ATABAS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avez un base de données domotic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TANDALON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travaillez sans base de donné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EVE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niveau de log voulez vous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INFORMATI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WARNING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CRITIC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EVE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ONFI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Ou sont les fichiers de configuration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..\scripts\modules\GET.METEO.FROM.GOOGLE\config\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IC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Liste des devi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ev_w41.ini|dev_w42.ini|dev_w43.ini|dev_w44.ini|dev_w45.ini|dev_w46.ini|dev_w47.ini|dev_w48.ini|dev_w49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EN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iste des even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evt_getmeteo_every_60min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UR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URL pour télécharger les prévis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1"/>
              </a:rPr>
              <a:t>http://www.google.fr/ig/api?weather=orleans,fr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FILE 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chier pour cacher les informations téléchargé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old"/>
                <a:ea typeface="Arial Bold"/>
              </a:rPr>
              <a:t>C:\Program Files\Homeseer\scripts\modules\GET.METEO.FROM.GOOGLE\tmp\meteo-google.tx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51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54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E964-FF84-4C7E-A5CF-451542D9874B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s devic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AN_DIM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True si le device supporte le DIM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H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W and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8 : Code X10 d’Homese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OC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Lo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_TYPE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Ty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Device ID Unique d’Homese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TATUS_SUPPOR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True si le device supporte le protocole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IS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VALU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ATU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Valeur par défa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??? Est la valeur par défau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VALU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BUTTO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APHIC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=TEMP_M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 module télécharge la météo et assigne la valeur adéquate du parsing au device HC + D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0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63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2FD4-B89E-4205-B8A0-64B5A1E60040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old"/>
              </a:rPr>
              <a:t>Comment configurer les évènements</a:t>
            </a:r>
            <a:endParaRPr b="0" lang="en-US" sz="32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Nom de l’évèn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T_ABS_TI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6 pour un évènement reccur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C_MIN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ancer le script toutes les 60 minu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CRIP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Script à lanc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OU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Groupe pour les évènements (GET.METEO.FROM.GOOG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old Italic"/>
                <a:ea typeface="Arial Bold Italic"/>
              </a:rPr>
              <a:t>D’autres attributs peuvent être utilisés. Ils sont décrits dans le fichier Homeseer.chm file. Lancer ce fichier, Cliquer sur “Scripts”, Ouvrir “Event Functions”, et lire “GetEvent” func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</dc:creator>
  <dc:description/>
  <dc:language>en-US</dc:language>
  <cp:lastModifiedBy/>
  <cp:revision>0</cp:revision>
  <dc:subject/>
  <dc:title>Diapositive 1</dc:title>
</cp:coreProperties>
</file>